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152280"/>
            <a:ext cx="6435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880" y="-58680"/>
            <a:ext cx="186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GT-7101 SERVICE MAN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9016920"/>
            <a:ext cx="6435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55520" y="385920"/>
            <a:ext cx="626436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CTION 1. TEST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.1 HANDSET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. Instrument fo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) MULT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2) AC VOLT METER (ACV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) AUDIO FREQUENCY GENERATOR (600ohm OUTP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) STORAGE OSCILL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5) TELEPHONE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or 20Hz RING GENERATOR with ADJUSTABLE OUTPUT LEV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) R/S DIGITAL RADIOCOMMUNICATION TESTER (CMD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or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HP8932A(B)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DECT Test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304800" y="8977320"/>
            <a:ext cx="261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200" y="262080"/>
            <a:ext cx="6073920" cy="9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 Standard Test Con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) STANDARD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1) BASESET UNIT ........................ INPUT : AC 230V ±10%, 50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OUTPUT: DC 9V 500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AC 9V 300m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2) HANDSET UNIT ............................... DC 3.6 ± 0.1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2) TEMPERATURE .................................... 25 ± 5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) CHANNEL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CHANNEL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FREQUENCY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------------------------------------- 1897.344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 ------------------------------------- 1895.616 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2 ------------------------------------- 1893.888 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 ------------------------------------- 1892.160 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 ------------------------------------- 1890.432 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5 ------------------------------------- 1888.704  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 ------------------------------------- 1886.976 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 ------------------------------------- 1885.248 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 ------------------------------------- 1883.520 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9 ------------------------------------- 1881.792 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) MODULATION .....................................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GFSK Bbt = 0.5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CHANNEL MULTIPLEX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..............................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 TDMA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DUPLEX METHOD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.................................. T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) TELEPHONE LINE IMPEDANCE ....................... 600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)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CHANNEL GRID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...................................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1.728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9)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BIT RATE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......................................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1152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0)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VOICE CODING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.................................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ADP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1)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TRANSMITTED POWER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.............................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250mW(Pea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04800" y="8977320"/>
            <a:ext cx="261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5520" y="297000"/>
            <a:ext cx="6486480" cy="59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 Register of Hand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) Press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바탕체"/>
              </a:rPr>
              <a:t>the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바탕체"/>
              </a:rPr>
              <a:t>&lt;Paging Key&gt;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바탕체"/>
              </a:rPr>
              <a:t>  in Base more than 15 secs until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바탕체"/>
              </a:rPr>
              <a:t>beep sound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바탕체"/>
              </a:rPr>
              <a:t> is heard.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.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바탕체"/>
              </a:rPr>
              <a:t>After a reset of the Base, the Base is set automatically to register mode.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2) Press the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[F/R] key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on the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Idle Mode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and select the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“H-REGISTER”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) Press the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[O.K] key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on the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“H-REGISTER”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Display and select the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“H-REGIST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Men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)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“SEARCH BS 1”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is displayed. Press the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[F/R] key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the Baseset Number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from 1 to 4. Searching Baseset Number is displayed, select after press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[O.K] key.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5) After the Handset automatically searches, if the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RFPI Code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s displayed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“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IN : “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s displayed. This RFPI Code is different per a Hands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) If the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“PIN: ”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s displayed, input the PIN Code. After inputting PIN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(four) digits(default : 1590), press the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[O.K] key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) Returned to the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“H-REGISTER”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Men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04800" y="8977320"/>
            <a:ext cx="261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5880" y="5000760"/>
            <a:ext cx="5234040" cy="3533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2880" y="5181480"/>
            <a:ext cx="4119840" cy="312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90720" y="468648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Figure 1 Register Functi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5240" y="250920"/>
            <a:ext cx="6654600" cy="82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 Entering TEST MO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) Handset test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1) Press the power key and make power off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2) The [ESC] key must be pressed and then power key pressed at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3) 1 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T6  2 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T10 is displa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. It means that T6 is TBR6 mode and T10 is TBR10 mo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4) Press the number 1 to enter TBR6 test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5) If test mode made a success, valid tone sounds and antenna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displa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6) When you want to escape the test mode, press the power ke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) Base test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1) Pull out the power connection c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2) Press the paging key, and then connect the power adaptor c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3) At this time, you must press the paging key continuously during about 5~6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4) And then you can hear the bell s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5) If you hear the bell sound, you detach the paging ke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6) And then test mode Entered automatical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7) When you want to escape the test mode, pull out the power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c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04800" y="8977320"/>
            <a:ext cx="261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3440" y="274680"/>
            <a:ext cx="6846840" cy="85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5. Test for Hands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) Pr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1) Adjust the voltage of power supply to DC 3.6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2) The [ESC] key must be pressed and turn the power on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3) 1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6 2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10 is displayed, and press the number 1 to enter TBR6 test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* Disassemble the anten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4) Connect 50Ω coaxial cable to antenna part of RF 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5) Connect the coaxial cable to DIGITAL RADIOCOMMUNICATION TESTER (CMD6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2) Check the below items of the each channel and s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1)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TX Frequency Accuracy                : ±50KHz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2)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Frequency Deviation Limit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: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±202 ~ ±403KHz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3) Frequency Drift                      : ±10KH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4) Jitter                               : &lt;1u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5) NTP (Normal Transmitter Power)       : 23±2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6) Bit Error Test                       : 0.001% (TX Level : -83dB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7) Power Time Mask (Rise/ Middle/ Fall) : P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) Test for Low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1) Turn the power supply switch off/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2) Decrease the voltage to check that the point which Beep tone is he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below DC 3.4±0.1V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66640" y="8977320"/>
            <a:ext cx="261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3440" y="274680"/>
            <a:ext cx="6612120" cy="9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. Test for Bases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) Pr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1) Adjust the voltage of power supply to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9VDC 500mA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2) Press the paging key, and then supply the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3) At this time, you must press the paging key continuously during about 5~6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econds. and then you can hear the bell sound. If you hear the bell soun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you detach the paging ke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* Disassemble the anten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4) Connect 50Ω coaxial cable to antenna part of RF 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5) Connect the coaxial cable to DIGITAL RADIOCOMMUNICATION TESTER (CMD6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2) Check the below items of the each channel and s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1)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TX Frequency Accuracy                : ±50KHz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2)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Frequency Deviation Limit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: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돋움체"/>
              </a:rPr>
              <a:t>±202 ~ ±403KHz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3) Frequency Drift                      : ±10KH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4) Jitter                               : &lt;1u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5) NTP (Normal Transmitter Power)       : 23±2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6) Bit Error Test                       : 0.001% (TX Level : -83dB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7) Power Time Mask (Rise/ Middle/ Fall) : P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) Test for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1) Set the normal mode by entering power to base and hands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2) Adjust ring output Telephone Analyzer to 20Hz, 38Vrms and connect b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o tel.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3) Check the ring is occurred in Ringer of handset when the output of 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s started in Telephone Analyz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60520" y="8977320"/>
            <a:ext cx="33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7T03:28:04Z</dcterms:created>
  <dc:creator>LG 전자 USER</dc:creator>
  <dc:description/>
  <dc:language>en-US</dc:language>
  <cp:lastModifiedBy>user</cp:lastModifiedBy>
  <cp:lastPrinted>1999-11-18T02:49:05Z</cp:lastPrinted>
  <dcterms:modified xsi:type="dcterms:W3CDTF">1999-11-18T02:53:43Z</dcterms:modified>
  <cp:revision>133</cp:revision>
  <dc:subject/>
  <dc:title>슬라이드 제목 없음</dc:title>
</cp:coreProperties>
</file>