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8EF2-9CA5-43B3-AD71-C7662E8D0F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E92-D730-46E9-A55C-E38B072EFE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3E55-8334-466A-9B88-78C312AE2B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DE3-8305-4FF4-939D-1F798FC515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Picture 11" descr="2by10_image"/>
          <p:cNvPicPr/>
          <p:nvPr/>
        </p:nvPicPr>
        <p:blipFill>
          <a:blip r:embed="rId2"/>
          <a:stretch/>
        </p:blipFill>
        <p:spPr>
          <a:xfrm>
            <a:off x="8077320" y="15840"/>
            <a:ext cx="1006200" cy="558720"/>
          </a:xfrm>
          <a:prstGeom prst="rect">
            <a:avLst/>
          </a:prstGeom>
          <a:ln w="0">
            <a:noFill/>
          </a:ln>
        </p:spPr>
      </p:pic>
      <p:sp>
        <p:nvSpPr>
          <p:cNvPr id="3" name="Line 12"/>
          <p:cNvSpPr/>
          <p:nvPr/>
        </p:nvSpPr>
        <p:spPr>
          <a:xfrm>
            <a:off x="0" y="4762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Line 13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6160" y="6561000"/>
            <a:ext cx="252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Great Company  Great Peop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" name="Group 16"/>
          <p:cNvGrpSpPr/>
          <p:nvPr/>
        </p:nvGrpSpPr>
        <p:grpSpPr>
          <a:xfrm>
            <a:off x="7451640" y="6550200"/>
            <a:ext cx="1548000" cy="225360"/>
            <a:chOff x="7451640" y="6550200"/>
            <a:chExt cx="1548000" cy="225360"/>
          </a:xfrm>
        </p:grpSpPr>
        <p:sp>
          <p:nvSpPr>
            <p:cNvPr id="7" name="WordArt 17"/>
            <p:cNvSpPr txBox="1"/>
            <p:nvPr/>
          </p:nvSpPr>
          <p:spPr>
            <a:xfrm>
              <a:off x="7759800" y="6593040"/>
              <a:ext cx="66816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cc00"/>
                  </a:solidFill>
                  <a:latin typeface="Arial Black"/>
                </a:rPr>
                <a:t>CUTE</a:t>
              </a:r>
              <a:endParaRPr b="0" lang="en-US" sz="18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" name="WordArt 18"/>
            <p:cNvSpPr txBox="1"/>
            <p:nvPr/>
          </p:nvSpPr>
          <p:spPr>
            <a:xfrm>
              <a:off x="8510760" y="6588000"/>
              <a:ext cx="48888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Arial Black"/>
                </a:rPr>
                <a:t>125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451640" y="6550200"/>
              <a:ext cx="311400" cy="222120"/>
            </a:xfrm>
            <a:prstGeom prst="pie">
              <a:avLst/>
            </a:prstGeom>
            <a:solidFill>
              <a:srgbClr val="c1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2by10_image2"/>
          <p:cNvPicPr/>
          <p:nvPr/>
        </p:nvPicPr>
        <p:blipFill>
          <a:blip r:embed="rId1"/>
          <a:stretch/>
        </p:blipFill>
        <p:spPr>
          <a:xfrm>
            <a:off x="0" y="0"/>
            <a:ext cx="3747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69360" y="7632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8e8e8"/>
                </a:solidFill>
                <a:latin typeface="HY견고딕"/>
                <a:ea typeface="HY견고딕"/>
              </a:rPr>
              <a:t>Great Company Great Peop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995640" y="1268280"/>
            <a:ext cx="48974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46240" y="135900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C Applicatio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DP TV-H2 series, fitted with 42V7 Module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38680" y="2852640"/>
            <a:ext cx="1600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457200" y="990720"/>
            <a:ext cx="2742840" cy="538920"/>
            <a:chOff x="457200" y="990720"/>
            <a:chExt cx="2742840" cy="538920"/>
          </a:xfrm>
        </p:grpSpPr>
        <p:sp>
          <p:nvSpPr>
            <p:cNvPr id="59" name="WordArt 14"/>
            <p:cNvSpPr txBox="1"/>
            <p:nvPr/>
          </p:nvSpPr>
          <p:spPr>
            <a:xfrm>
              <a:off x="1004760" y="1092240"/>
              <a:ext cx="1182600" cy="43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cc66"/>
                  </a:solidFill>
                  <a:latin typeface="Arial Black"/>
                </a:rPr>
                <a:t>CUTE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cc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WordArt 15"/>
            <p:cNvSpPr txBox="1"/>
            <p:nvPr/>
          </p:nvSpPr>
          <p:spPr>
            <a:xfrm>
              <a:off x="2332800" y="1080720"/>
              <a:ext cx="86724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99"/>
                  </a:solidFill>
                  <a:latin typeface="Arial Black"/>
                </a:rPr>
                <a:t>125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57200" y="990720"/>
              <a:ext cx="550440" cy="532440"/>
            </a:xfrm>
            <a:prstGeom prst="pie">
              <a:avLst/>
            </a:prstGeom>
            <a:solidFill>
              <a:srgbClr val="c1004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" name="Text Box 19"/>
          <p:cNvSpPr/>
          <p:nvPr/>
        </p:nvSpPr>
        <p:spPr>
          <a:xfrm>
            <a:off x="1169640" y="5943600"/>
            <a:ext cx="1391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06.05.2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26" descr="1"/>
          <p:cNvPicPr/>
          <p:nvPr/>
        </p:nvPicPr>
        <p:blipFill>
          <a:blip r:embed="rId2"/>
          <a:stretch/>
        </p:blipFill>
        <p:spPr>
          <a:xfrm>
            <a:off x="8172360" y="189000"/>
            <a:ext cx="719280" cy="18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009"/>
          <p:cNvPicPr/>
          <p:nvPr/>
        </p:nvPicPr>
        <p:blipFill>
          <a:blip r:embed="rId3"/>
          <a:stretch/>
        </p:blipFill>
        <p:spPr>
          <a:xfrm>
            <a:off x="5934240" y="6237360"/>
            <a:ext cx="1590480" cy="282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595840" y="3502080"/>
            <a:ext cx="2360880" cy="330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Outline &amp;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151600" y="3500280"/>
            <a:ext cx="523800" cy="3333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95840" y="3873600"/>
            <a:ext cx="2360880" cy="331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placement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151600" y="3871800"/>
            <a:ext cx="523800" cy="3351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789440" y="4221000"/>
            <a:ext cx="352764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Attach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1 Construction / Layout of V7 Plasma Mo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2 Board Identif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4680" y="6434280"/>
            <a:ext cx="91486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47560" y="1066680"/>
            <a:ext cx="3606840" cy="1825920"/>
          </a:xfrm>
          <a:prstGeom prst="rect">
            <a:avLst/>
          </a:prstGeom>
          <a:solidFill>
            <a:srgbClr val="eeeeee"/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◆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ble Models  : All H2 serie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DP-TV with 42V7 Module Fitt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2PX1RV, 42PX2RV*,, 42PX3RV*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2PX4RV*, 42PX4MV*, 42PM3MV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Others:##-42PX40 Serie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Z-42PX3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Rectangle 11"/>
          <p:cNvSpPr/>
          <p:nvPr/>
        </p:nvSpPr>
        <p:spPr>
          <a:xfrm rot="16200000">
            <a:off x="-166320" y="1794960"/>
            <a:ext cx="178740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541120" y="663480"/>
            <a:ext cx="176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돋움"/>
              </a:rPr>
              <a:t>Field SVC Gu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935000" y="663480"/>
            <a:ext cx="70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돋움"/>
              </a:rPr>
              <a:t>Iss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47560" y="2951280"/>
            <a:ext cx="3606840" cy="321444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Rectangle 15"/>
          <p:cNvSpPr/>
          <p:nvPr/>
        </p:nvSpPr>
        <p:spPr>
          <a:xfrm rot="16200000">
            <a:off x="-859320" y="4397760"/>
            <a:ext cx="317340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838080" y="2943360"/>
            <a:ext cx="32068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IPM Fail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Y-SUS Board of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7 PDP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odule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Q1,Q4 De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11560" y="1579680"/>
            <a:ext cx="393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32080" y="4246200"/>
            <a:ext cx="3934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4452840" y="1069920"/>
            <a:ext cx="4092840" cy="50878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22"/>
          <p:cNvSpPr/>
          <p:nvPr/>
        </p:nvSpPr>
        <p:spPr>
          <a:xfrm rot="16200000">
            <a:off x="2117520" y="3470040"/>
            <a:ext cx="50227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4422960" y="3123360"/>
            <a:ext cx="3934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VC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38"/>
          <p:cNvSpPr/>
          <p:nvPr/>
        </p:nvSpPr>
        <p:spPr>
          <a:xfrm>
            <a:off x="1003320" y="2365200"/>
            <a:ext cx="2533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ympt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No Picture &amp; Audio Sound 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1300320" y="5137200"/>
            <a:ext cx="1212840" cy="94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0" descr=""/>
          <p:cNvPicPr/>
          <p:nvPr/>
        </p:nvPicPr>
        <p:blipFill>
          <a:blip r:embed="rId2"/>
          <a:stretch/>
        </p:blipFill>
        <p:spPr>
          <a:xfrm>
            <a:off x="2562120" y="5137200"/>
            <a:ext cx="1212840" cy="94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1"/>
          <p:cNvSpPr/>
          <p:nvPr/>
        </p:nvSpPr>
        <p:spPr>
          <a:xfrm>
            <a:off x="838080" y="4819680"/>
            <a:ext cx="2459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gt; Solder Cr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75"/>
          <p:cNvGrpSpPr/>
          <p:nvPr/>
        </p:nvGrpSpPr>
        <p:grpSpPr>
          <a:xfrm>
            <a:off x="1116000" y="3811680"/>
            <a:ext cx="2808360" cy="1373400"/>
            <a:chOff x="1116000" y="3811680"/>
            <a:chExt cx="2808360" cy="1373400"/>
          </a:xfrm>
        </p:grpSpPr>
        <p:sp>
          <p:nvSpPr>
            <p:cNvPr id="88" name="Rectangle 24"/>
            <p:cNvSpPr/>
            <p:nvPr/>
          </p:nvSpPr>
          <p:spPr>
            <a:xfrm>
              <a:off x="2419200" y="4726080"/>
              <a:ext cx="15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3300"/>
                  </a:solidFill>
                  <a:latin typeface="Arial"/>
                  <a:ea typeface="돋움"/>
                </a:rPr>
                <a:t>Burnt stain in Q1,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9" name="Picture 26" descr="DSC02539"/>
            <p:cNvPicPr/>
            <p:nvPr/>
          </p:nvPicPr>
          <p:blipFill>
            <a:blip r:embed="rId3"/>
            <a:stretch/>
          </p:blipFill>
          <p:spPr>
            <a:xfrm>
              <a:off x="1116000" y="3834000"/>
              <a:ext cx="1333440" cy="895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90" name="Picture 27" descr="DSC02540"/>
            <p:cNvPicPr/>
            <p:nvPr/>
          </p:nvPicPr>
          <p:blipFill>
            <a:blip r:embed="rId4"/>
            <a:srcRect l="0" t="0" r="6570" b="0"/>
            <a:stretch/>
          </p:blipFill>
          <p:spPr>
            <a:xfrm>
              <a:off x="2494080" y="3822840"/>
              <a:ext cx="1255680" cy="900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91" name="Oval 28"/>
            <p:cNvSpPr/>
            <p:nvPr/>
          </p:nvSpPr>
          <p:spPr>
            <a:xfrm>
              <a:off x="2104920" y="4265640"/>
              <a:ext cx="279360" cy="22716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9"/>
            <p:cNvSpPr/>
            <p:nvPr/>
          </p:nvSpPr>
          <p:spPr>
            <a:xfrm>
              <a:off x="2038320" y="4040280"/>
              <a:ext cx="246240" cy="20664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30"/>
            <p:cNvSpPr/>
            <p:nvPr/>
          </p:nvSpPr>
          <p:spPr>
            <a:xfrm>
              <a:off x="3137040" y="3981600"/>
              <a:ext cx="247680" cy="206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31"/>
            <p:cNvSpPr/>
            <p:nvPr/>
          </p:nvSpPr>
          <p:spPr>
            <a:xfrm>
              <a:off x="3201840" y="4368960"/>
              <a:ext cx="246240" cy="206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5" name="AutoShape 32"/>
            <p:cNvCxnSpPr>
              <a:stCxn id="92" idx="6"/>
              <a:endCxn id="93" idx="2"/>
            </p:cNvCxnSpPr>
            <p:nvPr/>
          </p:nvCxnSpPr>
          <p:spPr>
            <a:xfrm flipV="1">
              <a:off x="2295000" y="4084560"/>
              <a:ext cx="831240" cy="57600"/>
            </a:xfrm>
            <a:prstGeom prst="bentConnector3">
              <a:avLst>
                <a:gd name="adj1" fmla="val 49913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6" name="AutoShape 33"/>
            <p:cNvCxnSpPr>
              <a:stCxn id="91" idx="6"/>
              <a:endCxn id="94" idx="2"/>
            </p:cNvCxnSpPr>
            <p:nvPr/>
          </p:nvCxnSpPr>
          <p:spPr>
            <a:xfrm>
              <a:off x="2395440" y="4380120"/>
              <a:ext cx="796320" cy="92880"/>
            </a:xfrm>
            <a:prstGeom prst="bentConnector3">
              <a:avLst>
                <a:gd name="adj1" fmla="val 49977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97" name="Rectangle 34"/>
            <p:cNvSpPr/>
            <p:nvPr/>
          </p:nvSpPr>
          <p:spPr>
            <a:xfrm>
              <a:off x="1979640" y="3811680"/>
              <a:ext cx="42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Rectangle 35"/>
            <p:cNvSpPr/>
            <p:nvPr/>
          </p:nvSpPr>
          <p:spPr>
            <a:xfrm>
              <a:off x="3314880" y="3973680"/>
              <a:ext cx="46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Rectangle 36"/>
            <p:cNvSpPr/>
            <p:nvPr/>
          </p:nvSpPr>
          <p:spPr>
            <a:xfrm>
              <a:off x="1979640" y="446256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3348000" y="4319640"/>
              <a:ext cx="5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Rectangle 42"/>
            <p:cNvSpPr/>
            <p:nvPr/>
          </p:nvSpPr>
          <p:spPr>
            <a:xfrm>
              <a:off x="1359000" y="4241880"/>
              <a:ext cx="677880" cy="44316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2" name="Line 43"/>
          <p:cNvSpPr/>
          <p:nvPr/>
        </p:nvSpPr>
        <p:spPr>
          <a:xfrm>
            <a:off x="2097000" y="4680000"/>
            <a:ext cx="399960" cy="431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4370400" y="6450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 Box 71"/>
          <p:cNvSpPr/>
          <p:nvPr/>
        </p:nvSpPr>
        <p:spPr>
          <a:xfrm>
            <a:off x="4859280" y="1430280"/>
            <a:ext cx="360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한컴돋움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한컴돋움"/>
              </a:rPr>
              <a:t>Market 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lobal (PAL BG/I/DK, SECAM L/L’, NTSC, PAL M/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en a PCB fitted to the PDP module fail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CTRL,YDRVTP,YDRVBT,XRLBT,XRRBT,YSU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SUS) please only  use the replacement pa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according to the li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◆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Especially</a:t>
            </a: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when Y-SUS Board fitted to th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Y-SUS Board fails please use the repair k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to change Y-SUS, Z-SUS and Control Bo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all together according to the li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urrently there is stock of Y-SUS Board in spare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After exhausting this stock please order or use the Repair kit for repai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2"/>
          <p:cNvSpPr/>
          <p:nvPr/>
        </p:nvSpPr>
        <p:spPr>
          <a:xfrm>
            <a:off x="6078600" y="4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Outline &amp;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73"/>
          <p:cNvSpPr/>
          <p:nvPr/>
        </p:nvSpPr>
        <p:spPr>
          <a:xfrm>
            <a:off x="191880" y="57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Service bulletin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1880" y="57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Service bulletin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692280"/>
          <a:ext cx="7129440" cy="5553000"/>
        </p:xfrm>
        <a:graphic>
          <a:graphicData uri="http://schemas.openxmlformats.org/drawingml/2006/table">
            <a:tbl>
              <a:tblPr/>
              <a:tblGrid>
                <a:gridCol w="1297080"/>
                <a:gridCol w="1643040"/>
                <a:gridCol w="1735200"/>
                <a:gridCol w="2454120"/>
              </a:tblGrid>
              <a:tr h="717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Boar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Original part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epla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Part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-SUS Failure repair 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6964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6871VSNB0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Kit Part num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* Kit Part consists of CTR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Y-SUS and Z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TRL  : 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-SUS :6871QYH036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Z-SUS :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Kit Part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6871VSNB0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Z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DRV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Not Suppl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in 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DRV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XRL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XRR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632"/>
          <p:cNvSpPr/>
          <p:nvPr/>
        </p:nvSpPr>
        <p:spPr>
          <a:xfrm>
            <a:off x="6002280" y="381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placement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007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95280" y="44280"/>
            <a:ext cx="51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struction / Layout of V7 Plasm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3" descr="1"/>
          <p:cNvPicPr/>
          <p:nvPr/>
        </p:nvPicPr>
        <p:blipFill>
          <a:blip r:embed="rId1"/>
          <a:stretch/>
        </p:blipFill>
        <p:spPr>
          <a:xfrm>
            <a:off x="1781280" y="1633680"/>
            <a:ext cx="5767200" cy="3666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785960" y="1628640"/>
            <a:ext cx="5781600" cy="36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Line 5"/>
          <p:cNvSpPr/>
          <p:nvPr/>
        </p:nvSpPr>
        <p:spPr>
          <a:xfrm flipH="1" flipV="1">
            <a:off x="3760920" y="5301720"/>
            <a:ext cx="64800" cy="358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4740120" y="5445000"/>
            <a:ext cx="1413000" cy="68580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7481880" y="5300640"/>
            <a:ext cx="1349280" cy="86508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7748640" y="3573360"/>
            <a:ext cx="1216080" cy="8413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7745400" y="1484280"/>
            <a:ext cx="1219320" cy="79236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204840" y="4149720"/>
            <a:ext cx="1386000" cy="87948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997520" y="5626080"/>
            <a:ext cx="927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CTR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61880" y="4327560"/>
            <a:ext cx="9907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Y-DRIV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YDRV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655560" y="5373720"/>
            <a:ext cx="1330560" cy="7920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34920" y="5600880"/>
            <a:ext cx="822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-LEF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RL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7738920" y="5589720"/>
            <a:ext cx="85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-RIGH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RR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075520" y="1819440"/>
            <a:ext cx="6476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-S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6" name="AutoShape 18"/>
          <p:cNvCxnSpPr/>
          <p:nvPr/>
        </p:nvCxnSpPr>
        <p:spPr>
          <a:xfrm flipV="1">
            <a:off x="7446960" y="2142360"/>
            <a:ext cx="527760" cy="1137240"/>
          </a:xfrm>
          <a:prstGeom prst="straightConnector1">
            <a:avLst/>
          </a:prstGeom>
          <a:ln w="19080">
            <a:solidFill>
              <a:srgbClr val="0066ff"/>
            </a:solidFill>
            <a:miter/>
          </a:ln>
        </p:spPr>
      </p:cxnSp>
      <p:sp>
        <p:nvSpPr>
          <p:cNvPr id="127" name="Oval 19"/>
          <p:cNvSpPr/>
          <p:nvPr/>
        </p:nvSpPr>
        <p:spPr>
          <a:xfrm>
            <a:off x="2986200" y="5479920"/>
            <a:ext cx="1411200" cy="6858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789600" y="2743200"/>
            <a:ext cx="703440" cy="12574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9" name="AutoShape 22"/>
          <p:cNvCxnSpPr>
            <a:stCxn id="130" idx="3"/>
          </p:cNvCxnSpPr>
          <p:nvPr/>
        </p:nvCxnSpPr>
        <p:spPr>
          <a:xfrm flipV="1">
            <a:off x="5785920" y="1445760"/>
            <a:ext cx="1056600" cy="1372320"/>
          </a:xfrm>
          <a:prstGeom prst="straightConnector1">
            <a:avLst/>
          </a:prstGeom>
          <a:ln w="19080">
            <a:solidFill>
              <a:srgbClr val="0066ff"/>
            </a:solidFill>
            <a:miter/>
          </a:ln>
        </p:spPr>
      </p:cxnSp>
      <p:sp>
        <p:nvSpPr>
          <p:cNvPr id="131" name="Oval 23"/>
          <p:cNvSpPr/>
          <p:nvPr/>
        </p:nvSpPr>
        <p:spPr>
          <a:xfrm>
            <a:off x="6637320" y="765000"/>
            <a:ext cx="1244520" cy="79704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7042680" y="10666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AutoShape 25"/>
          <p:cNvSpPr/>
          <p:nvPr/>
        </p:nvSpPr>
        <p:spPr>
          <a:xfrm>
            <a:off x="1835280" y="990720"/>
            <a:ext cx="1922400" cy="380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2046240" y="1174680"/>
            <a:ext cx="71640" cy="76320"/>
          </a:xfrm>
          <a:prstGeom prst="ellipse">
            <a:avLst/>
          </a:prstGeom>
          <a:solidFill>
            <a:srgbClr val="3e7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2046240" y="1069920"/>
            <a:ext cx="71640" cy="76320"/>
          </a:xfrm>
          <a:prstGeom prst="ellipse">
            <a:avLst/>
          </a:prstGeom>
          <a:solidFill>
            <a:srgbClr val="3e7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2168280" y="1012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42” V7 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6751800" y="2708280"/>
            <a:ext cx="730080" cy="1512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2165400" y="2637000"/>
            <a:ext cx="1146240" cy="165564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1784520" y="1917720"/>
            <a:ext cx="334800" cy="14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1784520" y="3573360"/>
            <a:ext cx="334800" cy="14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4092480" y="4437000"/>
            <a:ext cx="1063800" cy="504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4691160" y="5013360"/>
            <a:ext cx="25257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2116080" y="5013360"/>
            <a:ext cx="25272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36"/>
          <p:cNvSpPr/>
          <p:nvPr/>
        </p:nvSpPr>
        <p:spPr>
          <a:xfrm flipH="1" flipV="1">
            <a:off x="7422840" y="3504960"/>
            <a:ext cx="392040" cy="2840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2763720" y="4005360"/>
            <a:ext cx="498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8076600" y="378936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Line 39"/>
          <p:cNvSpPr/>
          <p:nvPr/>
        </p:nvSpPr>
        <p:spPr>
          <a:xfrm flipH="1" flipV="1">
            <a:off x="6684840" y="5157720"/>
            <a:ext cx="797040" cy="432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Line 40"/>
          <p:cNvSpPr/>
          <p:nvPr/>
        </p:nvSpPr>
        <p:spPr>
          <a:xfrm>
            <a:off x="4957920" y="4941720"/>
            <a:ext cx="399960" cy="57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3494160" y="5157720"/>
            <a:ext cx="39996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Line 42"/>
          <p:cNvSpPr/>
          <p:nvPr/>
        </p:nvSpPr>
        <p:spPr>
          <a:xfrm flipV="1">
            <a:off x="1919160" y="5084280"/>
            <a:ext cx="1044720" cy="484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43"/>
          <p:cNvSpPr/>
          <p:nvPr/>
        </p:nvSpPr>
        <p:spPr>
          <a:xfrm flipV="1">
            <a:off x="1585800" y="4292640"/>
            <a:ext cx="333360" cy="216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322200" y="1484280"/>
            <a:ext cx="1317600" cy="7668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503280" y="1622520"/>
            <a:ext cx="125424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Y-DRIVE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YDRVT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1585800" y="2060640"/>
            <a:ext cx="333360" cy="3603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Oval 48"/>
          <p:cNvSpPr/>
          <p:nvPr/>
        </p:nvSpPr>
        <p:spPr>
          <a:xfrm>
            <a:off x="204840" y="2852640"/>
            <a:ext cx="1386000" cy="87624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533520" y="316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Y-S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Line 50"/>
          <p:cNvSpPr/>
          <p:nvPr/>
        </p:nvSpPr>
        <p:spPr>
          <a:xfrm>
            <a:off x="1476360" y="3357720"/>
            <a:ext cx="797040" cy="2156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Picture 51" descr="2"/>
          <p:cNvPicPr/>
          <p:nvPr/>
        </p:nvPicPr>
        <p:blipFill>
          <a:blip r:embed="rId2"/>
          <a:stretch/>
        </p:blipFill>
        <p:spPr>
          <a:xfrm>
            <a:off x="3983040" y="2060640"/>
            <a:ext cx="1789200" cy="1511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2"/>
          <p:cNvSpPr/>
          <p:nvPr/>
        </p:nvSpPr>
        <p:spPr>
          <a:xfrm>
            <a:off x="3978360" y="2060640"/>
            <a:ext cx="1790640" cy="15001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3976560" y="2060640"/>
            <a:ext cx="1795680" cy="1512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55"/>
          <p:cNvSpPr/>
          <p:nvPr/>
        </p:nvSpPr>
        <p:spPr>
          <a:xfrm>
            <a:off x="2421000" y="3129120"/>
            <a:ext cx="431640" cy="115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56"/>
          <p:cNvSpPr/>
          <p:nvPr/>
        </p:nvSpPr>
        <p:spPr>
          <a:xfrm>
            <a:off x="6969240" y="2733840"/>
            <a:ext cx="431640" cy="115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1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79320" y="1052640"/>
            <a:ext cx="4032360" cy="5184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1903320" y="1112760"/>
            <a:ext cx="576360" cy="265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6" name="AutoShape 7"/>
          <p:cNvCxnSpPr>
            <a:stCxn id="165" idx="3"/>
          </p:cNvCxnSpPr>
          <p:nvPr/>
        </p:nvCxnSpPr>
        <p:spPr>
          <a:xfrm>
            <a:off x="2492280" y="1246320"/>
            <a:ext cx="4060080" cy="2498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7" name="Text Box 8"/>
          <p:cNvSpPr/>
          <p:nvPr/>
        </p:nvSpPr>
        <p:spPr>
          <a:xfrm>
            <a:off x="1652760" y="65880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DP42V7 Y-SUS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364000" y="37418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Y-SUS Board Lab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2" descr="DSCN1351"/>
          <p:cNvPicPr/>
          <p:nvPr/>
        </p:nvPicPr>
        <p:blipFill>
          <a:blip r:embed="rId2"/>
          <a:stretch/>
        </p:blipFill>
        <p:spPr>
          <a:xfrm>
            <a:off x="5075280" y="1341360"/>
            <a:ext cx="3120840" cy="2341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6143760" y="2022480"/>
            <a:ext cx="1511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737320" y="38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oard 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227640" y="3124080"/>
            <a:ext cx="1408320" cy="307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체"/>
              </a:rPr>
              <a:t>Part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47880" y="476280"/>
            <a:ext cx="24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DP42V7 Z-SUS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7128000" y="4724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Board Lab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576360" y="763560"/>
            <a:ext cx="8286120" cy="5545080"/>
            <a:chOff x="576360" y="763560"/>
            <a:chExt cx="8286120" cy="5545080"/>
          </a:xfrm>
        </p:grpSpPr>
        <p:pic>
          <p:nvPicPr>
            <p:cNvPr id="178" name="Picture 7" descr=""/>
            <p:cNvPicPr/>
            <p:nvPr/>
          </p:nvPicPr>
          <p:blipFill>
            <a:blip r:embed="rId1"/>
            <a:stretch/>
          </p:blipFill>
          <p:spPr>
            <a:xfrm>
              <a:off x="576360" y="763560"/>
              <a:ext cx="310176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8"/>
            <p:cNvSpPr/>
            <p:nvPr/>
          </p:nvSpPr>
          <p:spPr>
            <a:xfrm>
              <a:off x="3024000" y="2205000"/>
              <a:ext cx="360000" cy="718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H="1">
              <a:off x="3384000" y="2636640"/>
              <a:ext cx="50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1" name="Picture 10" descr=""/>
            <p:cNvPicPr/>
            <p:nvPr/>
          </p:nvPicPr>
          <p:blipFill>
            <a:blip r:embed="rId2"/>
            <a:stretch/>
          </p:blipFill>
          <p:spPr>
            <a:xfrm>
              <a:off x="4966920" y="2354040"/>
              <a:ext cx="38955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"/>
            <p:cNvSpPr/>
            <p:nvPr/>
          </p:nvSpPr>
          <p:spPr>
            <a:xfrm>
              <a:off x="6048360" y="1915920"/>
              <a:ext cx="20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돋움체"/>
                </a:rPr>
                <a:t>PDP42V7 CTRL Boar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7376760" y="2492280"/>
              <a:ext cx="564840" cy="287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600360" y="2606400"/>
              <a:ext cx="20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돋움체"/>
                </a:rPr>
                <a:t>Board Label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7704000" y="2852640"/>
              <a:ext cx="0" cy="180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6" name="Text Box 17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3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737320" y="38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oard 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40:31Z</dcterms:created>
  <dc:creator>admin</dc:creator>
  <dc:description/>
  <dc:language>en-US</dc:language>
  <cp:lastModifiedBy>Master5</cp:lastModifiedBy>
  <dcterms:modified xsi:type="dcterms:W3CDTF">2009-11-12T10:18:23Z</dcterms:modified>
  <cp:revision>124</cp:revision>
  <dc:subject/>
  <dc:title>슬라이드 1</dc:title>
</cp:coreProperties>
</file>